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AF7-E0C5-45B5-A9E3-2D0FAB25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CAA-A8D5-4F53-AB0E-BB0EC469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2FF-6512-4615-817E-FE788A79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493-13B8-4BFA-A5C8-FBCFD934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42C-133A-4AD3-A226-F5331D89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949-2CB6-409D-ADF3-EF8CD933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73C-770D-46A1-A950-F2A51BBC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20B-5F71-4FD9-B30D-53E7337A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C1D-B0BB-45D9-B44F-9C616F09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F42-714B-41AE-985D-D840FFC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1B1-D7D0-4DD3-A7C2-BA03DDC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12B-40EF-447B-A244-2F94DF87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A66-5FB0-4095-B18F-55D5053A5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suntime.com.ua/img/content/sight/188/wide_89585043901.jpg"/>
          <p:cNvPicPr/>
          <p:nvPr/>
        </p:nvPicPr>
        <p:blipFill>
          <a:blip r:embed="rId1"/>
          <a:srcRect l="0" t="0" r="35992" b="0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928880" y="4762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ом посетили театр им. Пушк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suntime.com.ua/img/content/city/2/wide_46317930930.jpg"/>
          <p:cNvPicPr/>
          <p:nvPr/>
        </p:nvPicPr>
        <p:blipFill>
          <a:blip r:embed="rId1"/>
          <a:srcRect l="16190" t="0" r="224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3132000" y="620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ледующий день  посетили знаменитую Алуш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suntime.com.ua/img/content/sight/2458/wide_25606688011.jpg"/>
          <p:cNvPicPr/>
          <p:nvPr/>
        </p:nvPicPr>
        <p:blipFill>
          <a:blip r:embed="rId1"/>
          <a:srcRect l="3865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 rot="21406800">
            <a:off x="217080" y="491472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разу ? В дельфинарий! Это, наверное, самое приятное моё воспоминание!  Дельфины,  прямо- как люд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suntime.com.ua/img/content/sight/372/wide_41850189950.jpg"/>
          <p:cNvPicPr/>
          <p:nvPr/>
        </p:nvPicPr>
        <p:blipFill>
          <a:blip r:embed="rId1"/>
          <a:srcRect l="17628" t="0" r="21071" b="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79280" y="26028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направились в аквапарк «Миндальная рощ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suntime.com.ua/img/content/sight/460/wide_66062266141.jpg"/>
          <p:cNvPicPr/>
          <p:nvPr/>
        </p:nvPicPr>
        <p:blipFill>
          <a:blip r:embed="rId1"/>
          <a:srcRect l="12075" t="0" r="24404" b="0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500040" y="35712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о парку «Крым в миниатюр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yugopolis.ru/data/mediadb/2383/0000/0363/36352.jpg"/>
          <p:cNvPicPr/>
          <p:nvPr/>
        </p:nvPicPr>
        <p:blipFill>
          <a:blip r:embed="rId1"/>
          <a:stretch/>
        </p:blipFill>
        <p:spPr>
          <a:xfrm>
            <a:off x="-757080" y="0"/>
            <a:ext cx="10293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-612720" y="4941720"/>
            <a:ext cx="946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же через 4 часа мы были в Краснодар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езжать нам очень не хотелос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 Пашковского аэропорта мы должны были вылететь в Москву, но теперь мой трепет перед столицей сошёл на нет – интуитивно мне казалось, что там всё инач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 2 дня, проведённых в Крыму, я влюбилась в этот край и безусловно хочу вернуться сюда ещё раз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50920" y="134136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ntime.com.u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yandex.r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vk.co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.wikipedia.or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om.drom.ru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ymology.info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untime.com.ua/img/content/city/2/wide_14542633101.jpg"/>
          <p:cNvPicPr/>
          <p:nvPr/>
        </p:nvPicPr>
        <p:blipFill>
          <a:blip r:embed="rId1"/>
          <a:srcRect l="14979" t="0" r="236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11280" y="785520"/>
            <a:ext cx="7772400" cy="1857240"/>
          </a:xfrm>
          <a:prstGeom prst="rect">
            <a:avLst/>
          </a:prstGeom>
          <a:solidFill>
            <a:srgbClr val="e46c0a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ОЁ ПУТЕШЕСТВИЕ В КР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ross-tur.ru/wp-content/uploads/2014/08/samolet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500720" y="3933720"/>
            <a:ext cx="43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NSimSun"/>
              </a:rPr>
              <a:t>Этим летом  вместе с родителями я посетила Крым.  Это  волшебный край! Здесь прекрасная природа, древние дворцы и замки, от вида которых захватывает дух,  добрые и улыбчивые люд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camp.pp.ua/images/image_pereprava/pereprava_03.jpg"/>
          <p:cNvPicPr/>
          <p:nvPr/>
        </p:nvPicPr>
        <p:blipFill>
          <a:blip r:embed="rId1"/>
          <a:stretch/>
        </p:blipFill>
        <p:spPr>
          <a:xfrm>
            <a:off x="-3571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-285840" y="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ортная перепр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 flipV="1" rot="10800000">
            <a:off x="4500360" y="407016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к только наш самолет приземлился, мы с родителями   отправились к переправе. Через некоторое время,  паром доставил нас на  берег Керченского прол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ttp://suntime.com.ua/img/content/sight/102/wide_3237431491.jpg"/>
          <p:cNvPicPr/>
          <p:nvPr/>
        </p:nvPicPr>
        <p:blipFill>
          <a:blip r:embed="rId1"/>
          <a:srcRect l="31413" t="0" r="724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266560" y="26028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вековый замок гор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poradumo.com.ua/wp-content/uploads/2015/07/9ce8746b611f2fd2c45f3e55ed17bc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79280" y="549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ость «Ени-Кале»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untime.com.ua/img/content/sight/268/wide_88105201300.jpg"/>
          <p:cNvPicPr/>
          <p:nvPr/>
        </p:nvPicPr>
        <p:blipFill>
          <a:blip r:embed="rId1"/>
          <a:srcRect l="14359" t="0" r="168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250920" y="404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ковь Иоанна Предт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hwww.tour.crimea.com/sites/default/files/styles/flexslider_full/public/field/resorts/vid_na_gorod.jpg?itok=zsyOCoqp"/>
          <p:cNvPicPr/>
          <p:nvPr/>
        </p:nvPicPr>
        <p:blipFill>
          <a:blip r:embed="rId1"/>
          <a:srcRect l="1666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24000" y="400536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й порт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untime.com.ua/img/content/sight/2537/wide_41561792652.jpg"/>
          <p:cNvPicPr/>
          <p:nvPr/>
        </p:nvPicPr>
        <p:blipFill>
          <a:blip r:embed="rId1"/>
          <a:srcRect l="0" t="0" r="386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90960" y="522936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 пля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17:54:47Z</dcterms:created>
  <dc:creator>user</dc:creator>
  <dc:description/>
  <dc:language>en-US</dc:language>
  <cp:lastModifiedBy>Home</cp:lastModifiedBy>
  <dcterms:modified xsi:type="dcterms:W3CDTF">2015-11-04T18:06:53Z</dcterms:modified>
  <cp:revision>39</cp:revision>
  <dc:subject/>
  <dc:title>Слайд 1</dc:title>
</cp:coreProperties>
</file>